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9EB-E686-42DB-86F3-846C63D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CFD-67F8-4368-8C35-8BFA7C94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17A84-F409-4052-9354-98485FA1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7ABD2-9B79-4035-8A3A-8065008A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20B5C-60D3-4D24-A4F6-4DC2527D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DD3E8-8952-4D48-9C31-9BCC606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6633F-61E8-4E8D-A6B7-BC8E749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FAA8A5-26AC-4C2F-B99A-F326BB6D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1C378-038D-40B7-BCCA-1A9F158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262EF-A29B-4F14-B6E8-96EDAA52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C0A2C-128F-4BD8-8FB1-52F0B7CC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4A7-A235-4D66-9093-2E44A4E7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2FE-A42A-4F6E-B5A5-6CD8CD22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E7B9-1BFA-4301-BEE8-F3ABA5F1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4C61-7EB3-4A8B-B097-A5029FB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BA8D8-6403-4F5B-B838-E5EBD76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5191B-E2BF-400A-977E-17D4B8BC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80C64-6B7C-4BC1-9963-E84CB16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E15F6-ED9A-472B-950B-FEE1F34A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5DE11-3544-4D23-9512-741A7CE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11D-E4E5-4C74-ABFE-D77934ED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A5908-63A6-4E32-9121-4B31FC9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15752-0C32-421E-8456-2B6E815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42E5-1A2C-4D6A-B03F-6321636A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3C8A-CAF9-4326-BA3C-AF7ABCD7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1B88-4060-49F1-A1BE-F203CDD3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5D61-3448-4F3E-816A-DD8B5198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FB64-81C3-42F9-B320-F405265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D576-EBD0-428F-B82D-50F2B3AE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13B3-8246-4809-9E7C-5775D2A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36FB-FB7B-496C-837B-1BEEA9C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059-F48F-46E2-9B6B-8AE8D166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B59B-39FB-4766-99AF-F049CF1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A249-847A-4708-9943-7A0C2511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7D32-F25C-4726-8DF8-B466EE9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3429-AD17-4DD3-9C8E-6D644E6C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5C8F-600C-40FF-8CF8-D36E234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7A0E-6E42-4DA1-98C5-9DD86063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FD87-0457-4895-BF1C-F339D26C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3326D-E43D-4C4A-9F88-1B271AB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3FE9C-CBE0-4FE9-A957-6E2B6FFF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0F5BF-AE85-48C5-A99D-891BBA2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6B9-D1B8-4E68-8838-4A504349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E2B59-2339-4120-861C-15E833C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54AA7-3EEF-4A74-95CD-DF9B1C7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1FD7F-B2A7-4534-AF14-CA42923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C90C3-8D14-4583-8FE6-0469897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24F37-33C7-45A0-BA33-50B7F93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0F764-A3D9-4431-B43A-144F464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B3BE2-507F-472A-B031-A2561C9E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E5219-255E-4C73-AF23-B4D53211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ECACC-2732-43F5-96FD-02649683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F937A-0777-4C82-9773-4F837A63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BEC-F578-4312-937D-455970B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145A-3B37-4C61-BD6A-1F4E492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07FE-7F45-43AB-9B32-BD2DF6C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8E612-7B1E-49D2-A6CB-BAA4D8B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DFA8-A05B-4312-B6E7-9714A09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51F0-D24C-48E6-9862-0C49886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CA41-4510-413E-88DE-000F661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3746-9940-4C9F-A5B3-54FD9AD3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B44D-F5CD-4DE3-A749-B7E3F95E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500E-422E-4CAA-8E0C-D9706D6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C270-701B-4368-B299-FE1391E2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C04-AA43-4AF8-8182-1101BC9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E798-690C-4D67-849A-41314A53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1E0F-1126-4B11-AFA2-CACA1580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18AF-2CEA-4E36-AB52-EF288199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97F6-6769-4F63-871E-89A5D84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457C7-1AFA-4D76-A3EA-33179459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83C43-F1FF-4B96-8FDE-197F6754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E7032-3194-4F2E-BC8F-8FA454B7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04B5-8861-444F-BABD-0550415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E119-2078-46F6-9BC8-D5185EC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39EF-E71B-484E-8ADD-29FD4152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EB5-BB89-4C4D-BB75-F28F2C4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D0B2-63A2-48F1-944D-B8ED5015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6279-8E45-4A74-856C-0DFA9254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AB1A-859C-45BB-93D5-D0A05657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9706-5197-4865-8EC8-2700D75F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F24F-A4D1-4B47-A12E-6AA1204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BA6E-7BF9-4829-93FB-08310D3A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F3D8E-2A5F-436F-8268-09F1C84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AB418-8B1D-4247-819C-46CBB34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B9AA-D1C7-4519-9EC5-2D6AD33C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AAED-2614-404C-8335-1282E86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EED-5D89-4982-A69A-BB68D415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B809-C6EA-433A-BE66-A0CDA53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B7C4-5AEF-4DB8-8356-440EE6A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E0E79-C1FC-4F79-98A4-A5176AC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4439-9F18-443C-986E-DCE0B370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28273-835D-454A-9346-813ADD48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82734-EFFA-4CBA-9F69-D2BEA9D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E7001-A078-4CBE-A09C-2B6E336C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A0CC9-68B2-4DD2-A768-2307E75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FC3BC-7B59-4D95-9F64-2537790A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4D09C1-CA13-497B-BF19-61397A2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A89-0201-4C1F-8B73-E13CDED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051F1-C97E-49E1-8A85-AB7950B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2B742-3CF5-4098-B506-61634EC7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A30CB-4607-4376-9388-FFE4D7E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92859-5A3E-4145-A6D7-134D7BC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91BF4-D6E4-45E2-9FD9-EBB2C4D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8F8BB-E9E8-4BBF-8E8D-0E2A1731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480D3D-2FF2-450A-8520-E21CB655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0A426-4315-4B1F-8E8A-ED7C3297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60B7C-B5D0-41B4-A78E-2C5138F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31DDF3-D339-4BB0-B5FC-7AA7383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598-4FFB-4662-BDDD-1E2A0548EC6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313-AF15-49FD-8390-C7210763872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62C8-2D9F-4664-89DA-24CC6F038A0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AC1D-6011-4C8F-8395-31FDD8992A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F86-75F6-4E48-8F64-50E1065670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F215-C51F-439D-BF6B-D8790ACE29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342-AADD-44B7-BEA7-354D7153E3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02EF-BDC9-43C4-B89D-51468D4B85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B374-D161-42E7-B914-83A2D22145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76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us ticket from Juanita’s town to Houston, Texas costs $389.  A plane ticket costs $700.  The bus leaves at 7:30 A.M. and the plane leaves at 9:10 A.M.  The bus trip takes 6 hour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and her mother travel by plane to Houston, how much will they spend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28600" y="1143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and her mother travel to Houston by bus, what is a good estimate of the amount they will have to spend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pays for a bus ticket with 4 one hundred dollar bills, how much change will she receiv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6680" indent="-256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much would Juanita save if she bought a bus ticket to Houston instead of a plane ticket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684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the plane trip takes 60 minutes from Juanita’s town, what time will the plane arrive in Houston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21:08:38Z</dcterms:created>
  <dc:creator>127partidak</dc:creator>
  <dc:description/>
  <dc:language>en-US</dc:language>
  <cp:lastModifiedBy>127partidak</cp:lastModifiedBy>
  <dcterms:modified xsi:type="dcterms:W3CDTF">2011-10-28T21:15:41Z</dcterms:modified>
  <cp:revision>1</cp:revision>
  <dc:subject/>
  <dc:title>Information</dc:title>
</cp:coreProperties>
</file>